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6.wmf" ContentType="image/x-wmf"/>
  <Override PartName="/ppt/media/image8.png" ContentType="image/png"/>
  <Override PartName="/ppt/media/image9.png" ContentType="image/png"/>
  <Override PartName="/ppt/media/image3.png" ContentType="image/png"/>
  <Override PartName="/ppt/media/image11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0.wmf" ContentType="image/x-wmf"/>
  <Override PartName="/ppt/media/image28.wmf" ContentType="image/x-wmf"/>
  <Override PartName="/ppt/media/image2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ustom Show 1" id="0">
      <p:sldLst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2F1-F303-421E-A135-23BA355A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0C2-3AB7-4A61-863C-A9DF03B4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272-691D-4B58-8082-28F610A8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89F-6FFC-45CA-985A-277AE089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059-5F69-4365-8289-BBB5B85C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ADF2-2988-4B79-A5FC-1ECEBFA0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9917-5DCC-4AC7-84B0-16A44E8B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8D0-7317-48F9-8F28-3CD7602F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7C2E-CC90-44AA-8E01-FEB60676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D34-94E3-48F8-A8D6-42520D12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13B-2B17-45DA-916B-5C722A0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556-F028-4AE5-83DC-9B571BD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A6C6-D389-4987-AC48-E92C09ABD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5.wmf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8.wmf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9.wmf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30.wmf"/><Relationship Id="rId2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2.wmf"/><Relationship Id="rId22" Type="http://schemas.openxmlformats.org/officeDocument/2006/relationships/image" Target="../media/image22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3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image" Target="../media/image24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wmf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"/>
          <p:cNvSpPr/>
          <p:nvPr/>
        </p:nvSpPr>
        <p:spPr>
          <a:xfrm>
            <a:off x="2028240" y="1482840"/>
            <a:ext cx="51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GUSTAR</a:t>
            </a: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3564000"/>
            <a:ext cx="7615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gust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pleasing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, the equivalent is “to lik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8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95720" y="19350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like coffe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soup" descr=""/>
          <p:cNvPicPr/>
          <p:nvPr/>
        </p:nvPicPr>
        <p:blipFill>
          <a:blip r:embed="rId21"/>
          <a:stretch/>
        </p:blipFill>
        <p:spPr>
          <a:xfrm>
            <a:off x="7162920" y="2819520"/>
            <a:ext cx="1592280" cy="20764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637720" y="5842080"/>
            <a:ext cx="39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offee is pleasing to 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01520" y="3548160"/>
            <a:ext cx="15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 caf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8880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2120" y="3548160"/>
            <a:ext cx="7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13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03200" y="1935000"/>
            <a:ext cx="296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like ca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5480" y="584208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Ca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28800" y="354816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os coc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54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66040" y="35481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Car1" descr=""/>
          <p:cNvPicPr/>
          <p:nvPr/>
        </p:nvPicPr>
        <p:blipFill>
          <a:blip r:embed="rId21"/>
          <a:stretch/>
        </p:blipFill>
        <p:spPr>
          <a:xfrm>
            <a:off x="6629400" y="3200400"/>
            <a:ext cx="22399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4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21760" y="1935000"/>
            <a:ext cx="51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e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danc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30480" y="5842080"/>
            <a:ext cx="49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dance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hi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02960" y="3548160"/>
            <a:ext cx="13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ba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81284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3040" y="3548160"/>
            <a:ext cx="11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DANCING" descr=""/>
          <p:cNvPicPr/>
          <p:nvPr/>
        </p:nvPicPr>
        <p:blipFill>
          <a:blip r:embed="rId21"/>
          <a:stretch/>
        </p:blipFill>
        <p:spPr>
          <a:xfrm>
            <a:off x="457200" y="2819520"/>
            <a:ext cx="22096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60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71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50080" y="1935000"/>
            <a:ext cx="44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like our teacher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1520" y="584208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ur teacher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please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u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3352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uestros profes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0764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99560" y="3548160"/>
            <a:ext cx="9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acher" descr=""/>
          <p:cNvPicPr/>
          <p:nvPr/>
        </p:nvPicPr>
        <p:blipFill>
          <a:blip r:embed="rId21"/>
          <a:stretch/>
        </p:blipFill>
        <p:spPr>
          <a:xfrm>
            <a:off x="304920" y="2819520"/>
            <a:ext cx="258768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89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9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00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0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0040" y="1935000"/>
            <a:ext cx="82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(guys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o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ke to go to the movi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14040" y="5842080"/>
            <a:ext cx="73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go to the movies is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pleasing to you (guys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548160"/>
            <a:ext cx="18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ir al 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198160" y="3548160"/>
            <a:ext cx="125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6160" y="354816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en00500_" descr=""/>
          <p:cNvPicPr/>
          <p:nvPr/>
        </p:nvPicPr>
        <p:blipFill>
          <a:blip r:embed="rId21"/>
          <a:stretch/>
        </p:blipFill>
        <p:spPr>
          <a:xfrm>
            <a:off x="6400800" y="3048120"/>
            <a:ext cx="2293920" cy="2165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40440" y="1935000"/>
            <a:ext cx="61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like history and spanish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409040" y="58420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History and Spanish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are pleasing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to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72200" y="3352680"/>
            <a:ext cx="259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a historia y el españ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83600" y="3548160"/>
            <a:ext cx="15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gusta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10000" y="3548160"/>
            <a:ext cx="8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bs00554_" descr=""/>
          <p:cNvPicPr/>
          <p:nvPr/>
        </p:nvPicPr>
        <p:blipFill>
          <a:blip r:embed="rId21"/>
          <a:stretch/>
        </p:blipFill>
        <p:spPr>
          <a:xfrm>
            <a:off x="457200" y="2971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7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58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8" name=""/>
          <p:cNvSpPr/>
          <p:nvPr/>
        </p:nvSpPr>
        <p:spPr>
          <a:xfrm>
            <a:off x="990720" y="457200"/>
            <a:ext cx="708660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Cómo se dice en español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08800" y="1569960"/>
            <a:ext cx="5162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like to stu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na likes to watch tele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n’t like to do 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los and Miguel like c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you guys like to look at pho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like to go shopping,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42760" y="194616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Me gusta estud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68040" y="2743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Elena) le gusta ver la tele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35880" y="3443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No nos gusta hacer la tare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29920" y="4191120"/>
            <a:ext cx="448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(A Carlos y a Miguel) les gustan los co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27480" y="495288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¿Os gusta mirar fo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06560" y="56386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Comic Sans MS"/>
              </a:rPr>
              <a:t>Te gusta ir de compras, ¿verda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7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5160" y="3564000"/>
            <a:ext cx="70416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I like  Spanish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“To me, Span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is pleas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d05090_" descr="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0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2614320" y="822240"/>
            <a:ext cx="3931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0000"/>
                </a:solidFill>
                <a:uFillTx/>
                <a:latin typeface="Comic Sans MS"/>
              </a:rPr>
              <a:t>I like the beach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2240" y="2712960"/>
            <a:ext cx="30639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Englis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I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ik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65640" y="2733840"/>
            <a:ext cx="3292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españ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 beach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o pleas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the indirec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e00542_" descr=""/>
          <p:cNvPicPr/>
          <p:nvPr/>
        </p:nvPicPr>
        <p:blipFill>
          <a:blip r:embed="rId21"/>
          <a:stretch/>
        </p:blipFill>
        <p:spPr>
          <a:xfrm>
            <a:off x="457200" y="609480"/>
            <a:ext cx="1407960" cy="1430280"/>
          </a:xfrm>
          <a:prstGeom prst="rect">
            <a:avLst/>
          </a:prstGeom>
          <a:ln w="0">
            <a:noFill/>
          </a:ln>
        </p:spPr>
      </p:pic>
      <p:pic>
        <p:nvPicPr>
          <p:cNvPr id="116" name="pe00542_" descr=""/>
          <p:cNvPicPr/>
          <p:nvPr/>
        </p:nvPicPr>
        <p:blipFill>
          <a:blip r:embed="rId22"/>
          <a:stretch/>
        </p:blipFill>
        <p:spPr>
          <a:xfrm>
            <a:off x="7202520" y="609480"/>
            <a:ext cx="140796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2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“backwards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8080" y="1981080"/>
            <a:ext cx="76039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gu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a pla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“no”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na01069_" descr=""/>
          <p:cNvPicPr/>
          <p:nvPr/>
        </p:nvPicPr>
        <p:blipFill>
          <a:blip r:embed="rId21"/>
          <a:stretch/>
        </p:blipFill>
        <p:spPr>
          <a:xfrm>
            <a:off x="3657600" y="50292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55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1217880" y="762120"/>
            <a:ext cx="67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doing the “liking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85120" y="3530520"/>
            <a:ext cx="2935800" cy="2531160"/>
            <a:chOff x="2985120" y="3530520"/>
            <a:chExt cx="2935800" cy="2531160"/>
          </a:xfrm>
        </p:grpSpPr>
        <p:sp>
          <p:nvSpPr>
            <p:cNvPr id="168" name=""/>
            <p:cNvSpPr/>
            <p:nvPr/>
          </p:nvSpPr>
          <p:spPr>
            <a:xfrm>
              <a:off x="2985120" y="3530520"/>
              <a:ext cx="7401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m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00120" y="3530520"/>
              <a:ext cx="8208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n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cc0000"/>
                  </a:solidFill>
                  <a:latin typeface="Comic Sans MS"/>
                </a:rPr>
                <a:t>l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182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914400" y="1066680"/>
            <a:ext cx="748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singular nouns 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infini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048120"/>
            <a:ext cx="74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Gustan”</a:t>
            </a:r>
            <a:r>
              <a:rPr b="0" i="1" lang="en-US" sz="44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lural noun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bs00559_" descr=""/>
          <p:cNvPicPr/>
          <p:nvPr/>
        </p:nvPicPr>
        <p:blipFill>
          <a:blip r:embed="rId21"/>
          <a:stretch/>
        </p:blipFill>
        <p:spPr>
          <a:xfrm>
            <a:off x="3124080" y="4495680"/>
            <a:ext cx="289584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07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53604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7040" y="2330280"/>
            <a:ext cx="383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 gusta nadar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02520" y="1582560"/>
            <a:ext cx="312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e likes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o sw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0400" y="476892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Les gusta la playa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8800" y="4494240"/>
            <a:ext cx="347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like the b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23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34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"/>
          <p:cNvSpPr/>
          <p:nvPr/>
        </p:nvSpPr>
        <p:spPr>
          <a:xfrm>
            <a:off x="1669320" y="533520"/>
            <a:ext cx="57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9920" y="16002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16002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59" name="argntinf" descr="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cubaf" descr="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spainf" descr="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9" name=""/>
          <p:cNvSpPr/>
          <p:nvPr/>
        </p:nvSpPr>
        <p:spPr>
          <a:xfrm>
            <a:off x="60120" y="1181160"/>
            <a:ext cx="4586760" cy="444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Me gusta… / M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Te gusta… / T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 gusta… / Le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Nos gusta… / N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Os gusta… / O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es gusta… / Les gustan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0560" y="1181160"/>
            <a:ext cx="35776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e / she / You like(s)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e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You guys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y / you like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11680" y="3092400"/>
            <a:ext cx="442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Thomas and Jennifer Duggan</dc:creator>
  <dc:description/>
  <dc:language>en-US</dc:language>
  <cp:lastModifiedBy>Saint John's Hgh School</cp:lastModifiedBy>
  <dcterms:modified xsi:type="dcterms:W3CDTF">2001-02-06T01:06:15Z</dcterms:modified>
  <cp:revision>29</cp:revision>
  <dc:subject/>
  <dc:title>PowerPoint Presentation</dc:title>
</cp:coreProperties>
</file>